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5FD9-0E75-4801-8AD7-C9D86770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1F70-AADC-4956-9AF6-4CA47F37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310A-9525-4074-B569-E948DF13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9F7-D40E-46F3-A6E5-A5A5FC3BF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43A2-55EE-431D-91FF-C7139212B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E6638-254C-482C-8F08-8FF14A24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DD21-53F4-409B-9AEA-9AE33150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E973-16DC-4C6C-88A1-3E71A8BF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BD0C-EBAD-4D18-B0B7-2CDA79C8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B4CA-68F0-4CF6-BB5C-8461BB65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7D7E-D2B9-4633-9C6B-518A97E1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AB41-E8E1-452B-B4F8-32A23FB4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245C-A879-45C3-9510-BA1021BE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91F0-5E4C-4EB0-BDE6-A2B5D085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F225-9FA3-462E-BA90-18ABBE15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80B7-76B1-4341-BC1B-2530848D0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C2A8-31C7-48C1-9E3D-282EBE76C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14A8-9F5C-4D77-B1E4-78C0B9F8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9C6E-435A-46F0-A4A9-6ED794B5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0A47-54AE-472C-8AA8-36A424A82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0304-64E2-4DC9-BF08-F1BEDB0B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C7AB-218D-42A5-9DD1-A84866BF3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4589-9D69-42F9-8CAE-FD1ABAF1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D0DA-B656-4931-8D1D-543FCE35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DC0D-2221-43BE-9BE8-02109DA82C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86CB-72FB-4815-8716-52DC1DE88B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Lebanon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410080" y="152280"/>
            <a:ext cx="347688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terranean 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514600" y="2438280"/>
            <a:ext cx="647712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and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stern Border – Mt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ests – most in SW As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276720" y="2438280"/>
            <a:ext cx="498132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0% Ser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ance/ba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icul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itr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ge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rim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7:20:50Z</dcterms:created>
  <dc:creator>Joe Dirt</dc:creator>
  <dc:description/>
  <dc:language>en-US</dc:language>
  <cp:lastModifiedBy>Joe Dirt</cp:lastModifiedBy>
  <dcterms:modified xsi:type="dcterms:W3CDTF">2007-12-18T18:18:22Z</dcterms:modified>
  <cp:revision>3</cp:revision>
  <dc:subject/>
  <dc:title>Lebanon</dc:title>
</cp:coreProperties>
</file>